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media/image8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1AF-3C16-4146-AD98-ACCEEC19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E59-A5A1-4CEE-AF83-EDB2FE8B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A9D-0B59-4F97-9C0C-DF81FEDE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BBE-91BF-4262-9F44-3E2FF33A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E05-23D2-465D-B3A7-29614281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3E11-1B58-48F3-9919-0AB8756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6B0-9B1C-409A-AE2F-ABE38EE5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B1B7-92D1-4F6E-BA09-B3855A5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10B9-E986-4C95-B9E1-1801FF88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4F4A-E3BD-428E-A72B-40EABC80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0FEE-BB82-42BC-BD6D-89AFD61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E48-7A39-4521-8DEF-81F33D4A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7DD8-2FE4-48A1-8BFA-D7F4AB5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FB47-775C-4107-B672-193129A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C1C-A062-4BA8-A1F5-99FC7A9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EC5-6210-4BA2-90D2-46527CE8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3419-03FD-4B58-A924-2A69E67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F36-13E9-4CF5-B3AB-E2715E39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C35-69A6-4887-B366-5425AFE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439-C68A-4012-9B8C-BC0B88B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19B-A36A-4F42-AF7F-A8B3C6F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DF0-9405-44A2-8552-86D8C64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C78-515A-477A-A683-9CF747AF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8D9-8A3D-4CA2-9D11-6F1A9E1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E0DC-A043-4607-81F3-88D2C2100D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13FF-8070-45B8-A7BA-CDF81D21A20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image" Target="../media/image9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8380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华文新魏"/>
                <a:ea typeface="华文新魏"/>
              </a:rPr>
              <a:t>Wri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81952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English Writing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71785" dir="2700000" blurRad="0" rotWithShape="0">
                    <a:srgbClr val="990000"/>
                  </a:outerShdw>
                </a:effectLst>
                <a:latin typeface="华文琥珀"/>
              </a:rPr>
              <a:t>英语书面表达训练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71785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722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-609480" y="5715000"/>
            <a:ext cx="380880" cy="2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643248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905120"/>
            <a:ext cx="56833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4. Form a pass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7160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42670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38400" y="38088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2565360"/>
            <a:ext cx="4248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5.Check ag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00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华文行楷"/>
              </a:rPr>
              <a:t>Correct your mista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6094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rec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019560" cy="433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276720"/>
            <a:ext cx="304560" cy="25905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39164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516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56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590920"/>
            <a:ext cx="60195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6. Make a clear cop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黑体"/>
              </a:rPr>
              <a:t>Handwriting and arran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66680" y="990720"/>
            <a:ext cx="708660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并列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, as well as, also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递进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sides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 addition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reo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mor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转折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, yet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however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although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therwi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r, in spite of, despite, instead of, in the end,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what’s worse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时间关系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, then, next, finally, …     firstly,secondly,finally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比较对比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, unlike,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 the contrar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on the other han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60199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0"/>
            <a:ext cx="5105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logical relation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181480"/>
            <a:ext cx="67820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总        结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 word, in general, in short, above all, after all, generally speaking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ow to deal with the writing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1219320"/>
            <a:ext cx="254160" cy="5029200"/>
          </a:xfrm>
          <a:custGeom>
            <a:avLst/>
            <a:gdLst>
              <a:gd name="textAreaLeft" fmla="*/ 162360 w 254160"/>
              <a:gd name="textAreaRight" fmla="*/ 254520 w 25416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nalyze the top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523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yle, person, tense, key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839960"/>
            <a:ext cx="62485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ords and phras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one or two words to express the key 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2790720"/>
            <a:ext cx="64008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ke sentence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se the words or phrases to make sent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581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orm the passag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ttentions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876920"/>
            <a:ext cx="262080" cy="1371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847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greement (Subject and predicate, ten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16564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ackground situation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ime,place,cond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546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ogic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9277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eginning &amp; e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3578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heck ag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743200"/>
            <a:ext cx="144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8381880" y="0"/>
            <a:ext cx="76212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05120" y="6172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ke a clear 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4038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rangement and logical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ffe"/>
            </a:gs>
            <a:gs pos="50000">
              <a:srgbClr val="ffe1ff"/>
            </a:gs>
            <a:gs pos="100000">
              <a:srgbClr val="feef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543800" cy="50292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221760" y="22860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60093"/>
                </a:solidFill>
                <a:latin typeface="Monotype Corsiva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2004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rite an article and use these writ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243" name="04031108472003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19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438280" y="762120"/>
            <a:ext cx="6324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HOMEWORK</a:t>
            </a:r>
            <a:endParaRPr b="1" lang="en-US" sz="60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523880"/>
            <a:ext cx="6782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</a:rPr>
              <a:t>请你根据以下表格内容提示，用英语写一篇短文，谈谈拥有私家车的利与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2514600"/>
          <a:ext cx="5790960" cy="2133720"/>
        </p:xfrm>
        <a:graphic>
          <a:graphicData uri="http://schemas.openxmlformats.org/drawingml/2006/table">
            <a:tbl>
              <a:tblPr/>
              <a:tblGrid>
                <a:gridCol w="2819160"/>
                <a:gridCol w="29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时难找车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省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费用昂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给你一种独立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危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467480" cy="4545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05120" y="533520"/>
            <a:ext cx="6019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Thank you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Arial Black"/>
              </a:rPr>
              <a:t>！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905120" y="5410080"/>
            <a:ext cx="6019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cecff"/>
                  </a:outerShdw>
                </a:effectLst>
                <a:latin typeface="华文隶书"/>
              </a:rPr>
              <a:t>请不吝赐教！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cecff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858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1981080"/>
            <a:ext cx="76201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roduction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W1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Body: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ailed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Conclusion: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onclude the who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assage or y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pin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914400"/>
            <a:ext cx="2666880" cy="6426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华文隶书"/>
              </a:rPr>
              <a:t>Stru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7400" y="2209680"/>
            <a:ext cx="4876920" cy="4267440"/>
          </a:xfrm>
          <a:prstGeom prst="roundRect">
            <a:avLst>
              <a:gd name="adj" fmla="val 16667"/>
            </a:avLst>
          </a:prstGeom>
          <a:solidFill>
            <a:srgbClr val="00cccc"/>
          </a:solidFill>
          <a:ln cap="sq"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990720"/>
            <a:ext cx="6553080" cy="10238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Six steps in wri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693880" y="2257200"/>
            <a:ext cx="3684600" cy="4095720"/>
            <a:chOff x="2693880" y="2257200"/>
            <a:chExt cx="3684600" cy="4095720"/>
          </a:xfrm>
        </p:grpSpPr>
        <p:sp>
          <p:nvSpPr>
            <p:cNvPr id="103" name="_s134165"/>
            <p:cNvSpPr/>
            <p:nvPr/>
          </p:nvSpPr>
          <p:spPr>
            <a:xfrm flipH="1" flipV="1">
              <a:off x="3647520" y="3790440"/>
              <a:ext cx="446040" cy="2588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34164"/>
            <p:cNvSpPr/>
            <p:nvPr/>
          </p:nvSpPr>
          <p:spPr>
            <a:xfrm>
              <a:off x="2693880" y="302400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Arial Black"/>
                  <a:ea typeface="华文琥珀"/>
                </a:rPr>
                <a:t>抄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34163"/>
            <p:cNvSpPr/>
            <p:nvPr/>
          </p:nvSpPr>
          <p:spPr>
            <a:xfrm flipH="1">
              <a:off x="364752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34162"/>
            <p:cNvSpPr/>
            <p:nvPr/>
          </p:nvSpPr>
          <p:spPr>
            <a:xfrm>
              <a:off x="269388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2" action="ppaction://hlinksldjump"/>
                </a:rPr>
                <a:t>改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34161"/>
            <p:cNvSpPr/>
            <p:nvPr/>
          </p:nvSpPr>
          <p:spPr>
            <a:xfrm>
              <a:off x="4535280" y="4813200"/>
              <a:ext cx="0" cy="5158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34160"/>
            <p:cNvSpPr/>
            <p:nvPr/>
          </p:nvSpPr>
          <p:spPr>
            <a:xfrm>
              <a:off x="4024080" y="532908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3" action="ppaction://hlinksldjump"/>
                </a:rPr>
                <a:t>合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34158"/>
            <p:cNvSpPr/>
            <p:nvPr/>
          </p:nvSpPr>
          <p:spPr>
            <a:xfrm>
              <a:off x="4976640" y="4559040"/>
              <a:ext cx="446040" cy="257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34157"/>
            <p:cNvSpPr/>
            <p:nvPr/>
          </p:nvSpPr>
          <p:spPr>
            <a:xfrm>
              <a:off x="5354640" y="4560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4" action="ppaction://hlinksldjump"/>
                </a:rPr>
                <a:t>扩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34156"/>
            <p:cNvSpPr/>
            <p:nvPr/>
          </p:nvSpPr>
          <p:spPr>
            <a:xfrm flipV="1">
              <a:off x="4976640" y="3791880"/>
              <a:ext cx="446040" cy="2574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34155"/>
            <p:cNvSpPr/>
            <p:nvPr/>
          </p:nvSpPr>
          <p:spPr>
            <a:xfrm>
              <a:off x="5354640" y="3025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5" action="ppaction://hlinksldjump"/>
                </a:rPr>
                <a:t>抓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134154"/>
            <p:cNvSpPr/>
            <p:nvPr/>
          </p:nvSpPr>
          <p:spPr>
            <a:xfrm flipV="1">
              <a:off x="4535280" y="3279240"/>
              <a:ext cx="0" cy="51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_s134153"/>
            <p:cNvSpPr/>
            <p:nvPr/>
          </p:nvSpPr>
          <p:spPr>
            <a:xfrm>
              <a:off x="4024080" y="225720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03d4a8">
                    <a:alpha val="88235"/>
                  </a:srgbClr>
                </a:gs>
                <a:gs pos="100000">
                  <a:srgbClr val="005cbf">
                    <a:alpha val="74117"/>
                  </a:srgbClr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 u="sng">
                  <a:solidFill>
                    <a:srgbClr val="ff4568"/>
                  </a:solidFill>
                  <a:uFillTx/>
                  <a:latin typeface="Arial Black"/>
                  <a:ea typeface="华文琥珀"/>
                  <a:hlinkClick r:id="rId6" action="ppaction://hlinksldjump"/>
                </a:rPr>
                <a:t>审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34152"/>
            <p:cNvSpPr/>
            <p:nvPr/>
          </p:nvSpPr>
          <p:spPr>
            <a:xfrm>
              <a:off x="4024080" y="379404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书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 Black"/>
                  <a:ea typeface="华文行楷"/>
                </a:rPr>
                <a:t>表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6985080" y="4572000"/>
            <a:ext cx="21589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457200"/>
            <a:ext cx="635652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59882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1. Analyse  the top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8954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确定基本要素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华文行楷"/>
              </a:rPr>
              <a:t>:5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W</a:t>
            </a:r>
            <a:r>
              <a:rPr b="0" lang="zh-CN" sz="4400" spc="-1" strike="noStrike">
                <a:solidFill>
                  <a:srgbClr val="000066"/>
                </a:solidFill>
                <a:latin typeface="Arial Black"/>
              </a:rPr>
              <a:t>1</a:t>
            </a:r>
            <a:r>
              <a:rPr b="0" lang="zh-CN" sz="4400" spc="-1" strike="noStrike">
                <a:solidFill>
                  <a:srgbClr val="cc0099"/>
                </a:solidFill>
                <a:latin typeface="Arial Black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666880"/>
            <a:ext cx="51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5451480"/>
            <a:ext cx="89208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733920"/>
            <a:ext cx="7162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5W: what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when where 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1H:  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58476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67816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 Black"/>
                <a:ea typeface="黑体"/>
              </a:rPr>
              <a:t>2. Grasp the key poi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1952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  <a:ea typeface="华文行楷"/>
              </a:rPr>
              <a:t>确定主要行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73392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行楷"/>
              </a:rPr>
              <a:t>What happen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2570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28800" y="4724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行楷"/>
              </a:rPr>
              <a:t>Key words and phr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0056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书面表达六步法</a:t>
            </a:r>
            <a:endParaRPr b="0" lang="en-US" sz="6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133720"/>
            <a:ext cx="58611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  <a:ea typeface="黑体"/>
              </a:rPr>
              <a:t>3. Make sente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03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Gramm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805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257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429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0226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Spel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5013360"/>
            <a:ext cx="63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黑体"/>
              </a:rPr>
              <a:t>Punctuation mark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  <a:ea typeface="黑体"/>
              </a:rPr>
              <a:t>标点符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2743200"/>
          <a:ext cx="8076960" cy="347832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380880"/>
            <a:ext cx="358128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9144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85800"/>
            <a:ext cx="289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qui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3980520"/>
          </a:xfrm>
          <a:prstGeom prst="rect">
            <a:avLst/>
          </a:prstGeom>
          <a:solidFill>
            <a:srgbClr val="00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考词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基础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un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汉语拼音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ese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piny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50000">
              <a:srgbClr val="fecfa1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00cc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33520"/>
            <a:ext cx="8076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MET 200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班的同学进行了一场有关英语学习的讨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论的题目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习英语要不要从儿童时期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你根据下表中提示写一篇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讨论的情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3520" y="2743200"/>
          <a:ext cx="8076960" cy="3551400"/>
        </p:xfrm>
        <a:graphic>
          <a:graphicData uri="http://schemas.openxmlformats.org/drawingml/2006/table">
            <a:tbl>
              <a:tblPr/>
              <a:tblGrid>
                <a:gridCol w="4038480"/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华文隶书"/>
                        </a:rPr>
                        <a:t>另一些同学认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从儿童时期开始学习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记忆力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记注很多单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为以后的英语学习打下坚实的基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应从儿童时期开始英语学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儿童时期既要学汉语拼音又要学英语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易混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影响汉语学习和今后的英语学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讨论未取得一致意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85800" y="304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5867280"/>
            <a:ext cx="2209680" cy="99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27200" y="1638360"/>
            <a:ext cx="47246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2057400"/>
            <a:ext cx="49528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257800"/>
            <a:ext cx="6858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4120"/>
            <a:ext cx="60984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441972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657600"/>
            <a:ext cx="457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2485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952880"/>
            <a:ext cx="1752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715000"/>
            <a:ext cx="16002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800600"/>
            <a:ext cx="60948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800600"/>
            <a:ext cx="7621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762120"/>
            <a:ext cx="1752480" cy="380880"/>
          </a:xfrm>
          <a:prstGeom prst="wedgeRoundRectCallout">
            <a:avLst>
              <a:gd name="adj1" fmla="val -138856"/>
              <a:gd name="adj2" fmla="val 176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2057400" cy="380880"/>
          </a:xfrm>
          <a:prstGeom prst="wedgeRoundRectCallout">
            <a:avLst>
              <a:gd name="adj1" fmla="val 49384"/>
              <a:gd name="adj2" fmla="val 1387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2057400" cy="380880"/>
          </a:xfrm>
          <a:prstGeom prst="wedgeRoundRectCallout">
            <a:avLst>
              <a:gd name="adj1" fmla="val -82638"/>
              <a:gd name="adj2" fmla="val 6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867280"/>
            <a:ext cx="2057400" cy="381240"/>
          </a:xfrm>
          <a:prstGeom prst="wedgeRoundRectCallout">
            <a:avLst>
              <a:gd name="adj1" fmla="val 74384"/>
              <a:gd name="adj2" fmla="val -145416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2057400" cy="381240"/>
          </a:xfrm>
          <a:prstGeom prst="wedgeRoundRectCallout">
            <a:avLst>
              <a:gd name="adj1" fmla="val 45680"/>
              <a:gd name="adj2" fmla="val 192499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3657600"/>
            <a:ext cx="2057400" cy="380880"/>
          </a:xfrm>
          <a:prstGeom prst="wedgeRoundRectCallout">
            <a:avLst>
              <a:gd name="adj1" fmla="val -118902"/>
              <a:gd name="adj2" fmla="val 7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5410080"/>
            <a:ext cx="2057400" cy="381240"/>
          </a:xfrm>
          <a:prstGeom prst="wedgeRoundRectCallout">
            <a:avLst>
              <a:gd name="adj1" fmla="val -69986"/>
              <a:gd name="adj2" fmla="val -91250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6470640"/>
            <a:ext cx="2057400" cy="380880"/>
          </a:xfrm>
          <a:prstGeom prst="wedgeRoundRectCallout">
            <a:avLst>
              <a:gd name="adj1" fmla="val -70986"/>
              <a:gd name="adj2" fmla="val -118333"/>
              <a:gd name="adj3" fmla="val 16667"/>
            </a:avLst>
          </a:prstGeom>
          <a:solidFill>
            <a:srgbClr val="00008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tence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8:43:56Z</dcterms:created>
  <dc:creator>gx</dc:creator>
  <dc:description/>
  <dc:language>en-US</dc:language>
  <cp:lastModifiedBy>太谷中学</cp:lastModifiedBy>
  <dcterms:modified xsi:type="dcterms:W3CDTF">2005-12-19T12:01:01Z</dcterms:modified>
  <cp:revision>22</cp:revision>
  <dc:subject/>
  <dc:title>How to deal with the writing？</dc:title>
</cp:coreProperties>
</file>